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770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6882-B4C2-43E1-947F-08215211D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E35A-2ADD-44F0-93B7-6013A3B95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E1DE-5E3B-4F34-9668-156ED6196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7DD6-DD2A-45EB-B02C-B872DA2F6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1FA56-54FB-4583-A47D-D069484AE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17D83-CB50-4757-AC5F-E4C067B79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FAA1E-2F16-4229-9170-2ABADC2CC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58E1C-E705-4C00-97A4-C11E7FD72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4B9DF-2676-4C80-8257-4B50F0B5E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5D407-103A-4E18-9613-058FA5FD6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7D301-23C8-4E5E-874B-98604D48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90B9-55AF-4C67-81B0-C711FF8FF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FEF4B-3214-4C09-A2DF-6CB7578E9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7AD0E-278A-4799-8C33-21FB04771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F001B-D948-4080-944E-A0B9BC3D9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00533-3CD1-4483-9A7E-97A5F7D05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AFF92-43C4-45D5-8EA4-BCD799F7F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4ED1-D0E3-4711-8854-E844F1127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B7B2-E030-470D-8262-DD34D03C3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F1C2-B6DB-4EBF-9A69-9BE7BDDF1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3AE3-0D4A-4F37-902D-9B1B3CEBF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709B-7FCB-4B59-AE5E-987235C05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1B75-11F3-4AC0-AF00-8014C4963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499F-37FB-4A7B-ADAA-4DF9734B4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34607-BCA2-473C-8845-154C8695E01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FA973-CF0F-4862-B9C8-B959C86C346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The Research Proces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P 631 Library S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0000"/>
                </a:solidFill>
                <a:latin typeface="Arial"/>
              </a:rPr>
              <a:t>Important Concepts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earch Ques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hat is the impact of educational policy and school improvement on student performanc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olean (logical) operators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ND, OR, N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arch Phr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educational policy OR school improvement AND student achiev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mary Sources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cuments or records containing firsthand information or original data on a top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riginal manuscripts, articles reporting original research, memoirs, letters, diaries, journals, photographs, interviews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ary Sources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works that are one step removed from the original source, that describe, summarize, or evaluate, and that are derived or based on primary source materi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: reviews, critical analysis, second-person accounts, biographical studies, historical studies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rtiary Sources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rks based entirely on secondary sources rather than on original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: textbook chapters, dictionary entries, encyclopedia essays, almanacs, guides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7543800" cy="152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0000"/>
                </a:solidFill>
                <a:latin typeface="Arial"/>
              </a:rPr>
              <a:t>The Research Process</a:t>
            </a:r>
            <a:br>
              <a:rPr sz="39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1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33cc"/>
                </a:solidFill>
                <a:latin typeface="Arial"/>
              </a:rPr>
              <a:t>Identify and develop your topic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99"/>
                </a:solidFill>
                <a:latin typeface="Arial"/>
              </a:rPr>
              <a:t>Formulate a research 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at is the impact of educational policy and school improvement on student performan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99"/>
                </a:solidFill>
                <a:latin typeface="Arial"/>
              </a:rPr>
              <a:t>Identify main concepts and key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ducational policy, school improvement, student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99"/>
                </a:solidFill>
                <a:latin typeface="Arial"/>
              </a:rPr>
              <a:t>Test your keyword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you might need to narrow or broaden your top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754380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0000"/>
                </a:solidFill>
                <a:latin typeface="Arial"/>
              </a:rPr>
              <a:t>The Research Process</a:t>
            </a:r>
            <a:br>
              <a:rPr sz="39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2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Arial"/>
              </a:rPr>
              <a:t>Find background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99"/>
                </a:solidFill>
                <a:latin typeface="Arial"/>
              </a:rPr>
              <a:t>Search for your keywords i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ction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cycloped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ject-specific encycloped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bliograph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boo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rse reserve materi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70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0000"/>
                </a:solidFill>
                <a:latin typeface="Arial"/>
              </a:rPr>
              <a:t>The Research Process</a:t>
            </a:r>
            <a:br>
              <a:rPr sz="39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3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Arial"/>
              </a:rPr>
              <a:t>Use catalogs to find books, e-books, digital records, periodicals, and med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99"/>
                </a:solidFill>
                <a:latin typeface="Arial"/>
              </a:rPr>
              <a:t>Helin Cata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99"/>
                </a:solidFill>
                <a:latin typeface="Arial"/>
              </a:rPr>
              <a:t>InRhode Library Catalog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combines the resources of Josiah Catalog, Brown University’s Library Catalog, with those of HELIN Library Catalo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63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0000"/>
                </a:solidFill>
                <a:latin typeface="Arial"/>
              </a:rPr>
              <a:t>The Research Process</a:t>
            </a:r>
            <a:br>
              <a:rPr sz="39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4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Arial"/>
              </a:rPr>
              <a:t>Use library databases and print index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99"/>
                </a:solidFill>
                <a:latin typeface="Arial"/>
              </a:rPr>
              <a:t>Databa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ucation Full Text Database (also searches ERIC and Education Index Retrospective databas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I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raus Curriculum Development Library On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ject M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S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b of 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ienceDir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99"/>
                </a:solidFill>
                <a:latin typeface="Arial"/>
              </a:rPr>
              <a:t>Index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Education Inde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 Index to Journals in Edu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ysical Education Inde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0000"/>
                </a:solidFill>
                <a:latin typeface="Arial"/>
              </a:rPr>
              <a:t>The Research Process</a:t>
            </a:r>
            <a:br>
              <a:rPr sz="39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5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1532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Arial"/>
              </a:rPr>
              <a:t>Find reliable web inform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9999"/>
                </a:solidFill>
                <a:latin typeface="Arial"/>
              </a:rPr>
              <a:t>Use online library search guid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9999"/>
                </a:solidFill>
                <a:latin typeface="Arial"/>
              </a:rPr>
              <a:t>Use online library bibliographi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9999"/>
                </a:solidFill>
                <a:latin typeface="Arial"/>
              </a:rPr>
              <a:t>Use subject directori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OMINE: Scholarly Internet Resource Collections at http://infomine.ucr.ed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brarians’ Internet Index at http://li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BL Information Service at http://bubl.ac.uk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ademic Info at http://www.academicinfo.net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55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0000"/>
                </a:solidFill>
                <a:latin typeface="Arial"/>
              </a:rPr>
              <a:t>The Research Process</a:t>
            </a:r>
            <a:br>
              <a:rPr sz="39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6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Arial"/>
              </a:rPr>
              <a:t>Critically analyze information sources and evaluate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99"/>
                </a:solidFill>
                <a:latin typeface="Arial"/>
              </a:rPr>
              <a:t>Web information evaluation criter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o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jec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ve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85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0000"/>
                </a:solidFill>
                <a:latin typeface="Arial"/>
              </a:rPr>
              <a:t>The Research Process</a:t>
            </a:r>
            <a:br>
              <a:rPr sz="39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7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33cc"/>
                </a:solidFill>
                <a:latin typeface="Arial"/>
              </a:rPr>
              <a:t>Document (cite) your outside sourc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99"/>
                </a:solidFill>
                <a:latin typeface="Arial"/>
              </a:rPr>
              <a:t>APA Citation Sty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Publication Manual of the American Psychological Association, 6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e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PA Style.or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t http://www.apastyle.org/elecref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OWL at Purd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owl.english.purdue.edu/owl/resource/560/01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PA Document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wisc.edu/writing/Handbook/DocAPA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543800" cy="144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0000"/>
                </a:solidFill>
                <a:latin typeface="Arial"/>
              </a:rPr>
              <a:t>The Research Process</a:t>
            </a:r>
            <a:br>
              <a:rPr sz="39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ps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34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ild your searches from general to specif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eep records of search strategies, search phrases, keywords used, and resul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15:18:22Z</dcterms:created>
  <dc:creator> Robert B. Niedbala</dc:creator>
  <dc:description/>
  <dc:language>en-US</dc:language>
  <cp:lastModifiedBy>mona florea</cp:lastModifiedBy>
  <dcterms:modified xsi:type="dcterms:W3CDTF">2010-03-10T19:46:54Z</dcterms:modified>
  <cp:revision>51</cp:revision>
  <dc:subject/>
  <dc:title>The research process</dc:title>
</cp:coreProperties>
</file>